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DD86-A8DC-4331-AFF1-79946E83F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C9FD-02EE-48E4-9CB9-C9307A78D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4C57-B874-4D75-90BA-99E2C9613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CAD0-2D08-4AEF-AD66-900FB25C0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854520" y="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4F87-83BA-4A2B-AE29-96F73D0B8D1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D82C-2BE7-4457-9DC0-FD1AB33E3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2560" y="4721400"/>
            <a:ext cx="544032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D29A-9842-4F9C-828A-AF366150B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0A51-66E1-42EB-B692-35E8E926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D47E-C574-4DD5-8684-289CEEFF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9F6D-6242-434C-A64D-8A2CE0A4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219-78A2-4083-BE25-569AA158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4507-F8AC-4B07-AB57-13FA6665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BE5D-F261-483D-86CA-5307ECA8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71AD-B419-4472-BEBF-6F662DD9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E3F9-A08E-4811-B334-DD647A82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5614-9FD4-4446-8B8A-8010A5E9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3D49-0437-4B06-AE3E-07A8AFCC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AFE4-0427-43B2-9AE4-5AC03117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0BA-79E8-4A8D-BC7B-2FE8494C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B0E2-93F7-4C65-A319-F83D67CC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59B3-1348-484E-A26B-AE3EFDB6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DFD2-E11C-477C-ACDA-90E801EF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94C1-8E16-401C-A375-BB35DAC3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B8A9-DF5A-46F7-AE07-FB92FDC8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76EA-39B9-499E-87D1-DD644112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5D36-AEE7-4051-95BC-F30CD429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958E-D325-43D1-8E47-4B3B207C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F297-9748-4C87-9F41-4A0C8A79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C37E-6F00-4CE5-99E8-4FDB6F66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6C70-4D4A-4938-8A7F-368DCA86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0D93-9D40-478C-8FAF-C8A1A93E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5849-D123-4AC4-94EC-1ADC0E39A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EVD PREPAREDNESS AND RESPONSE TRAINING 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Budget, Logistics and Resource Mobi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38AFC9C-A3A1-4EC7-BEDC-A9257CA911B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EVD PREPAREDNESS AND RESPONSE TRAINING 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Budget, Logistics and Resource Mobi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0449711-9442-427A-A960-98EF11E97C4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1"/>
          <p:cNvSpPr/>
          <p:nvPr/>
        </p:nvSpPr>
        <p:spPr>
          <a:xfrm>
            <a:off x="0" y="493560"/>
            <a:ext cx="914400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086520" y="3505320"/>
            <a:ext cx="275256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3"/>
          <a:srcRect l="28209" t="0" r="0" b="0"/>
          <a:stretch/>
        </p:blipFill>
        <p:spPr>
          <a:xfrm>
            <a:off x="0" y="1066680"/>
            <a:ext cx="9144000" cy="1409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4"/>
          <p:cNvSpPr/>
          <p:nvPr/>
        </p:nvSpPr>
        <p:spPr>
          <a:xfrm>
            <a:off x="0" y="0"/>
            <a:ext cx="9144000" cy="49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TTOMBAR_blue.png"/>
          <p:cNvPicPr/>
          <p:nvPr/>
        </p:nvPicPr>
        <p:blipFill>
          <a:blip r:embed="rId4"/>
          <a:stretch/>
        </p:blipFill>
        <p:spPr>
          <a:xfrm>
            <a:off x="0" y="205740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3E93-6B84-4982-9FCF-5ED350A0554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-1600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2679-2987-4ED3-80CE-45AA0C9E161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0" y="2205000"/>
            <a:ext cx="9144000" cy="1657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ff"/>
                </a:solidFill>
                <a:latin typeface="Arial"/>
                <a:ea typeface="Verdana"/>
              </a:rPr>
              <a:t>Mobilização de Recursos, Orçamento e Logíst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mostra de Necessidades Orçamentais e Financei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003640" y="1700280"/>
          <a:ext cx="3251520" cy="5056200"/>
        </p:xfrm>
        <a:graphic>
          <a:graphicData uri="http://schemas.openxmlformats.org/drawingml/2006/table">
            <a:tbl>
              <a:tblPr/>
              <a:tblGrid>
                <a:gridCol w="3251520"/>
              </a:tblGrid>
              <a:tr h="76356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ídio para os voluntários da comun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80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ídio para os supervis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08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 do combustível (mota) para os supervis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5224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 do combustível (veículo) para os supervis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360">
                        <a:lnSpc>
                          <a:spcPts val="1397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ídio para o condu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4752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ídio para o gestor de dados do distrito nos distritos afect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08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 dos telefones e carrega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755640" y="16286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Sal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Epidemiologista-che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Supervisores no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Investig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Gestor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erito psicos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Condutor (se utiliz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5280" y="1773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Equip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Ver anexo no diapositivo seguinte, mas considerar també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usto dos carregamentos dos telemó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mpressão de formul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nti-séptico para as mã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Transporte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(para os supervisores no terreno, investigadores e equipa de investig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áxis (se utiliz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ombustível se forem utilizados veículos próp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mostra de Necessidades de Equipamento/Apoi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mostra de lista de equipament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9280" y="765000"/>
          <a:ext cx="8785440" cy="5872320"/>
        </p:xfrm>
        <a:graphic>
          <a:graphicData uri="http://schemas.openxmlformats.org/drawingml/2006/table">
            <a:tbl>
              <a:tblPr/>
              <a:tblGrid>
                <a:gridCol w="1970280"/>
                <a:gridCol w="1058760"/>
                <a:gridCol w="824040"/>
                <a:gridCol w="944280"/>
                <a:gridCol w="831960"/>
                <a:gridCol w="703440"/>
                <a:gridCol w="909360"/>
                <a:gridCol w="881280"/>
                <a:gridCol w="662040"/>
              </a:tblGrid>
              <a:tr h="20484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a de Identificação de Contact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equip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1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idemiologista-chef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ervisor no Terr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Investig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Identific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stor de D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Transpor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Desinfec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Enterr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mento de Protecção Pesso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vas descartáve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ecção Facial (ou óculo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áscara Facial N95/FFP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áscara cirúrgica para o ca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cos de plástico para riscos biológic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68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nologia de Inform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stema de Posicionamento Mundi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emóveis (com carregament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48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ramentas de Recolha de Dados Electrónic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mento no Terr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mómetr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eriais de Escritó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ulários Apropri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tor/Car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31840" y="1249200"/>
            <a:ext cx="8881920" cy="4950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Exemplo de um orçamento para a implementação e gestão da identificação de contactos num distrito afec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ontent Placeholder 2"/>
          <p:cNvSpPr/>
          <p:nvPr/>
        </p:nvSpPr>
        <p:spPr>
          <a:xfrm>
            <a:off x="395280" y="1557360"/>
            <a:ext cx="88614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necer uma compreensão ampla para a necessidade de uma disponibilidade sustentável de abastecimentos de emergência e apoio logístico às operações de alerta e resposta à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ilhar desafios logísticos práticos, incluindo os encontrados nos países com surtos corr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gerir possíveis soluções para os desafios identifi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bjectivos Intermédios: Abastecimentos e 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07880" y="1196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bjectivos da se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necessidade de uma Função de Abastecimentos e Logística na resposta a emergê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adro de resposta a su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adro de Abastecimentos e Log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incipais prioridades na resposta ao surto do Éb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ornecimento de Abastec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oio ao Pessoal n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safios de Log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pções/propo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Resumo da Apresentaçã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1196640"/>
            <a:ext cx="885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bastecimento refere-se à quantidade total de um produto (bem ou serviço) disponível para aquisição a qualquer preço especifica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ogística é o processo de planeamento, implementação e controlo de um fluxo de mercadorias e serviços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eficaz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eficiente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do ponto de origem ao consum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ornecer uma logística eficaz para a criação e procura, o mais rápido possível, dos contributos necessários e assegurar o mais cedo possível os movimentos de peritos, doentes e abastecimentos para os pontos de uso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ZW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000" y="123480"/>
            <a:ext cx="8856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 necessidade de uma Função de Abastecimentos e 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856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Book Antiqua"/>
              </a:rPr>
              <a:t>Estrutura organizacional das diferentes comissões envolvidas nas actividades de controlo do surto do Éb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975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1800" y="115920"/>
            <a:ext cx="76028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Quadro de Resposta a Sur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468360" y="1230480"/>
            <a:ext cx="8206920" cy="4627080"/>
            <a:chOff x="468360" y="1230480"/>
            <a:chExt cx="8206920" cy="4627080"/>
          </a:xfrm>
        </p:grpSpPr>
        <p:sp>
          <p:nvSpPr>
            <p:cNvPr id="142" name="Rectangle 2"/>
            <p:cNvSpPr/>
            <p:nvPr/>
          </p:nvSpPr>
          <p:spPr>
            <a:xfrm>
              <a:off x="468360" y="4641120"/>
              <a:ext cx="8206920" cy="121644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000066"/>
                  </a:solidFill>
                  <a:latin typeface="Arial"/>
                </a:rPr>
                <a:t>Morbilidade e mortalidade reduzid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000066"/>
                  </a:solidFill>
                  <a:latin typeface="Arial"/>
                </a:rPr>
                <a:t>Resposta ao surto reforçada</a:t>
              </a:r>
              <a:r>
                <a:rPr b="0" lang="pt-PT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"/>
            <p:cNvSpPr/>
            <p:nvPr/>
          </p:nvSpPr>
          <p:spPr>
            <a:xfrm>
              <a:off x="468360" y="1230480"/>
              <a:ext cx="3722760" cy="1706400"/>
            </a:xfrm>
            <a:prstGeom prst="rect">
              <a:avLst/>
            </a:prstGeom>
            <a:solidFill>
              <a:srgbClr val="0000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Arial"/>
                </a:rPr>
                <a:t>Equipas de Resposta Ráp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"/>
            <p:cNvSpPr/>
            <p:nvPr/>
          </p:nvSpPr>
          <p:spPr>
            <a:xfrm>
              <a:off x="4868280" y="1230480"/>
              <a:ext cx="3807000" cy="1706400"/>
            </a:xfrm>
            <a:prstGeom prst="rect">
              <a:avLst/>
            </a:prstGeom>
            <a:solidFill>
              <a:srgbClr val="0000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Arial"/>
                </a:rPr>
                <a:t>Logística e abastec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"/>
            <p:cNvSpPr/>
            <p:nvPr/>
          </p:nvSpPr>
          <p:spPr>
            <a:xfrm>
              <a:off x="468360" y="3202920"/>
              <a:ext cx="8206920" cy="1217520"/>
            </a:xfrm>
            <a:prstGeom prst="rect">
              <a:avLst/>
            </a:prstGeom>
            <a:solidFill>
              <a:srgbClr val="3366ff">
                <a:alpha val="75000"/>
              </a:srgbClr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Arial"/>
                </a:rPr>
                <a:t>Operações de respos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6"/>
            <p:cNvSpPr/>
            <p:nvPr/>
          </p:nvSpPr>
          <p:spPr>
            <a:xfrm rot="10800000">
              <a:off x="4444920" y="4201560"/>
              <a:ext cx="423360" cy="584280"/>
            </a:xfrm>
            <a:prstGeom prst="upArrow">
              <a:avLst>
                <a:gd name="adj1" fmla="val 50000"/>
                <a:gd name="adj2" fmla="val 4329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8"/>
            <p:cNvSpPr/>
            <p:nvPr/>
          </p:nvSpPr>
          <p:spPr>
            <a:xfrm rot="10800000">
              <a:off x="2117160" y="2820240"/>
              <a:ext cx="423360" cy="525600"/>
            </a:xfrm>
            <a:prstGeom prst="upArrow">
              <a:avLst>
                <a:gd name="adj1" fmla="val 50000"/>
                <a:gd name="adj2" fmla="val 4327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9"/>
            <p:cNvSpPr/>
            <p:nvPr/>
          </p:nvSpPr>
          <p:spPr>
            <a:xfrm rot="10800000">
              <a:off x="6559560" y="2778480"/>
              <a:ext cx="423360" cy="525600"/>
            </a:xfrm>
            <a:prstGeom prst="upArrow">
              <a:avLst>
                <a:gd name="adj1" fmla="val 50000"/>
                <a:gd name="adj2" fmla="val 4327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-360" y="790560"/>
            <a:ext cx="89917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Font typeface="Bookman Old Style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4320" y="117000"/>
            <a:ext cx="760752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Quadro de Abastecimentos e Logístic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430200" y="936720"/>
            <a:ext cx="8713440" cy="4952520"/>
            <a:chOff x="430200" y="936720"/>
            <a:chExt cx="8713440" cy="4952520"/>
          </a:xfrm>
        </p:grpSpPr>
        <p:sp>
          <p:nvSpPr>
            <p:cNvPr id="152" name="Rectangle 5"/>
            <p:cNvSpPr/>
            <p:nvPr/>
          </p:nvSpPr>
          <p:spPr>
            <a:xfrm>
              <a:off x="430200" y="2499840"/>
              <a:ext cx="3333960" cy="14068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900" spc="-1" strike="noStrike">
                  <a:solidFill>
                    <a:srgbClr val="ffffff"/>
                  </a:solidFill>
                  <a:latin typeface="Arial"/>
                </a:rPr>
                <a:t>Transporte, segurança e bem-estar do pessoal</a:t>
              </a:r>
              <a:r>
                <a:rPr b="0" lang="pt-PT" sz="29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430200" y="936720"/>
              <a:ext cx="3333960" cy="13287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3000"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900" spc="-1" strike="noStrike">
                  <a:solidFill>
                    <a:srgbClr val="ffffff"/>
                  </a:solidFill>
                  <a:latin typeface="Arial"/>
                </a:rPr>
                <a:t>Abastecimentos para o alerta e respost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430200" y="4298400"/>
              <a:ext cx="3333960" cy="15908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900" spc="-1" strike="noStrike">
                  <a:solidFill>
                    <a:srgbClr val="ffffff"/>
                  </a:solidFill>
                  <a:latin typeface="Arial"/>
                </a:rPr>
                <a:t>Apoio à logística no terren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8"/>
            <p:cNvSpPr/>
            <p:nvPr/>
          </p:nvSpPr>
          <p:spPr>
            <a:xfrm>
              <a:off x="4521600" y="936720"/>
              <a:ext cx="4622040" cy="1191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8000"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Abastecimentos de laboratório, medicamentos, kits de emergência, meios de transporte, materiais de escritóri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9"/>
            <p:cNvSpPr/>
            <p:nvPr/>
          </p:nvSpPr>
          <p:spPr>
            <a:xfrm>
              <a:off x="4521600" y="2499840"/>
              <a:ext cx="4622040" cy="13291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Gestão de veículo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Telecomunicações</a:t>
              </a: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Alojamento/bem-estar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0"/>
            <p:cNvSpPr/>
            <p:nvPr/>
          </p:nvSpPr>
          <p:spPr>
            <a:xfrm>
              <a:off x="4521600" y="4141800"/>
              <a:ext cx="4622040" cy="17474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Avaliação no terreno</a:t>
              </a: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Supervisão do movimento de abastecimentos</a:t>
              </a: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.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Avaliação de impacto</a:t>
              </a: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1"/>
            <p:cNvSpPr/>
            <p:nvPr/>
          </p:nvSpPr>
          <p:spPr>
            <a:xfrm>
              <a:off x="3764160" y="1483920"/>
              <a:ext cx="757440" cy="390600"/>
            </a:xfrm>
            <a:prstGeom prst="rightArrow">
              <a:avLst>
                <a:gd name="adj1" fmla="val 50000"/>
                <a:gd name="adj2" fmla="val 53327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12"/>
            <p:cNvSpPr/>
            <p:nvPr/>
          </p:nvSpPr>
          <p:spPr>
            <a:xfrm>
              <a:off x="3764160" y="2968920"/>
              <a:ext cx="757440" cy="390960"/>
            </a:xfrm>
            <a:prstGeom prst="rightArrow">
              <a:avLst>
                <a:gd name="adj1" fmla="val 50000"/>
                <a:gd name="adj2" fmla="val 48435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3"/>
            <p:cNvSpPr/>
            <p:nvPr/>
          </p:nvSpPr>
          <p:spPr>
            <a:xfrm>
              <a:off x="3764160" y="4767480"/>
              <a:ext cx="757440" cy="326880"/>
            </a:xfrm>
            <a:prstGeom prst="rightArrow">
              <a:avLst>
                <a:gd name="adj1" fmla="val 50000"/>
                <a:gd name="adj2" fmla="val 60644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Line 14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101520">
            <a:solidFill>
              <a:srgbClr val="651d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bjectivo G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213336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ordenação bem sucedida das operações, prevenção e controlo da epidemia através da mobilização de recursos por parte do Grupo de Acção/Comissão Nacional do Ébol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Principais prioridades na resposta ao surto do Ébol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60400" y="17586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Fornecimento de apoio às operações no terr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49040" y="1620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Fornecimento de abastec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D:\PICTURES\EBOLA DRC 2007\receiving and dispatching ppe.jpg"/>
          <p:cNvPicPr/>
          <p:nvPr/>
        </p:nvPicPr>
        <p:blipFill>
          <a:blip r:embed="rId1"/>
          <a:stretch/>
        </p:blipFill>
        <p:spPr>
          <a:xfrm>
            <a:off x="133200" y="2562120"/>
            <a:ext cx="4040280" cy="3036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L1040346 (Small)"/>
          <p:cNvPicPr/>
          <p:nvPr/>
        </p:nvPicPr>
        <p:blipFill>
          <a:blip r:embed="rId2"/>
          <a:stretch/>
        </p:blipFill>
        <p:spPr>
          <a:xfrm>
            <a:off x="4305240" y="2954160"/>
            <a:ext cx="4349880" cy="26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63080" y="1271160"/>
            <a:ext cx="8828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Reservas adequadas de materiais necessários às investigações epidemiológicas a nível subnacional e nacio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Kits de EPP, módulos A e B do catálogo da 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Produtos de desinfecção e outros materiais para se colocar em prática as medidas básicas de combate à infec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Kits de recolha de amostras e materiais de transpo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Reagentes laborator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Equipamento médico e medicam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Fonte fiável de reabastecimento de materia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Gestão e sistema de distribuição de reservas eficaz a todos os níve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Procedimentos de alfândega simplificados para uma rápida autorização de importaçõ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Fornecimento de abastecimento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30320" y="1196640"/>
            <a:ext cx="901368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riação de escritórios funcionais para actividades do pessoal e reuniões das comissõ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Sustentabilidade das operações, por exemplo, pequenas aquisições, pagamento de subsídios diários e aliment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Equipamento de escritório (computadores, impressoras, fotocopiadoras)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Fornecer meios de comunicação – telemóveis, etc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Reabastecimento dos produtos necessários / encomendar recursos a tempo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76200" y="223560"/>
            <a:ext cx="822960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Fornecimento de abastecimentos</a:t>
            </a: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ansporte para as equipas de proxim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:\Users\chindedzak\Desktop\Ebola July 2014 documents_YZ\SLE EBOLA RESPONSE PHOTO LIBRARY\4   WHO mobile laboratory equipment being loaded to support ebola case confirmation in Kailahun District in eastern Sierra Leone.jpg"/>
          <p:cNvPicPr/>
          <p:nvPr/>
        </p:nvPicPr>
        <p:blipFill>
          <a:blip r:embed="rId1"/>
          <a:stretch/>
        </p:blipFill>
        <p:spPr>
          <a:xfrm>
            <a:off x="-41400" y="1557360"/>
            <a:ext cx="4537080" cy="4103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chindedzak\Desktop\Ebola July 2014 documents_YZ\SLE EBOLA RESPONSE PHOTO LIBRARY\5   A team of WHO laboratory sciientists crossing from Guinea into Sierra Leone to set up a mobile lab in Kailahun District to test Ebola cases.jpg"/>
          <p:cNvPicPr/>
          <p:nvPr/>
        </p:nvPicPr>
        <p:blipFill>
          <a:blip r:embed="rId2"/>
          <a:stretch/>
        </p:blipFill>
        <p:spPr>
          <a:xfrm>
            <a:off x="4648320" y="1628640"/>
            <a:ext cx="44956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63080" y="1197000"/>
            <a:ext cx="8812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Transporte e movimentação de pess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Gestão de veículos e meios de transporte para as necessidades das actividades de controlo das equipas (vigilância, mobilização social, funerai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oordenação dos movimentos das equipas móveis (vigilância, mobilização social, funerai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Elaboração e aplicação de mapas de serviço regulares para o pessoal nacional e internacio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oordenação e facilitação de deslocações para o pessoal internacio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0600" y="274320"/>
            <a:ext cx="84549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Apoio para o pessoal no terren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-360" y="1125360"/>
            <a:ext cx="90248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Apoio para os programas e abastec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Assegurar o abastecimento e transporte do EPP (batas, máscaras, óculos, botas e outro equipamento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Assegurar o abastecimento de equipamento de desinfecção às equipas de controlo da infecção e ao pessoal responsável pelos funerais segur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Facilitar a gestão de resíduos biomédicos e das áreas de isolamento em coordenação com a subcomissão para a gestão dos cas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Apoio para o pessoal no terren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08000" y="1197000"/>
            <a:ext cx="8856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2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Administração, segurança e protec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Dependendo das circunstâncias, atender às necessidades alimentares dos doentes e das equipas de interven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Assegurar a segurança dos espaços e a participação do pessoal nas actividades de control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omunicar as instruções de segurança ao pessoal antes que estes cheguem ao terren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Sempre que necessário, formar o pessoal sobre as bases da logístic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Apoio para o pessoal no terren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706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5840" y="1125000"/>
            <a:ext cx="892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Financiamento inadequado para os abastecimentos e logística necessári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Coordenação e colaboração do apoio dos parceiros, incluindo recurs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Previsão e aquisição de quantidades óptimas de abastecimentos e logística devido à elevada procura actu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Isolamento dos países com surtos de EVD por parte de algumas empresas está a afectar a disponibilidade de abasteciment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Diferentes conceitos, qualidade e padrões de EPP para a EV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Desafios da Logístic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78920" y="981000"/>
            <a:ext cx="88772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Escassez de especialistas em logística com formação adequad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Rotação elevada de pessoal devido ao medo, pânico e exaust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Distribuição tardia das equipas operacionais em novas frentes do sur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Ambiente sociopolític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Transporte e instalações de comunicação pouco adequad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Escassez de pessoal para as equipas de enterros, especialmente devido a compensações pouco adequadas para o risco e estigma associad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Acesso a algumas áreas não é fáci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Desafios (cont…..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339920"/>
            <a:ext cx="8686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alçar o papel da comissão de coordenação acerca da preparação e resposta ao surto de E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screver a composição e termos de referência da comissão de coorden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finir as actividades da comissão de coordenação a nível do distrito (lo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bjectivos Intermédios: para o Grupo de Acção/Comissão Nacional do Ébol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08000" y="1197000"/>
            <a:ext cx="8856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São propostas as seguintes medidas tendo em conta as considerações específicas ao país e comunidad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Compromisso da liderança política e social e dos parceiros em criar um ambiente propício à mobilização de recurs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Assegurar e monitorizar a segurança das equipas no terreno e do equipamento sempre que adequa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Reforçar a capacidade logística nacional (cadeia de abastecimento nacional, formações), assegurar o compromisso dos parceiros com base nas suas vantagens comparativ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Possíveis soluçõ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su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 logística deve ser o primeiro componente a ser devidamente abordado na preparação para qualquer emergência, incluindo surtos de EV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533520" y="1143000"/>
            <a:ext cx="815328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rcerias na preparação e resposta ao surto de E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164040" y="6213600"/>
            <a:ext cx="3525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7010280" y="2441520"/>
            <a:ext cx="1376640" cy="1812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1878120" y="2676600"/>
            <a:ext cx="2573280" cy="1299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tretch/>
        </p:blipFill>
        <p:spPr>
          <a:xfrm>
            <a:off x="4856040" y="2676600"/>
            <a:ext cx="1868760" cy="1452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4"/>
          <a:stretch/>
        </p:blipFill>
        <p:spPr>
          <a:xfrm>
            <a:off x="466560" y="2514600"/>
            <a:ext cx="1256040" cy="20685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"/>
          <p:cNvSpPr/>
          <p:nvPr/>
        </p:nvSpPr>
        <p:spPr>
          <a:xfrm>
            <a:off x="2700360" y="4129200"/>
            <a:ext cx="167652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Arial"/>
              </a:rPr>
              <a:t>MS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0"/>
          <p:cNvSpPr/>
          <p:nvPr/>
        </p:nvSpPr>
        <p:spPr>
          <a:xfrm>
            <a:off x="5396040" y="4721400"/>
            <a:ext cx="2655720" cy="947160"/>
          </a:xfrm>
          <a:prstGeom prst="rect">
            <a:avLst/>
          </a:prstGeom>
          <a:solidFill>
            <a:srgbClr val="f1f9f9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70c0"/>
                </a:solidFill>
                <a:latin typeface="Arial"/>
              </a:rPr>
              <a:t>Instituto </a:t>
            </a: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1"/>
          <p:cNvSpPr/>
          <p:nvPr/>
        </p:nvSpPr>
        <p:spPr>
          <a:xfrm>
            <a:off x="609480" y="4648320"/>
            <a:ext cx="167652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Arial"/>
              </a:rPr>
              <a:t>IF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D:\userprofiles\gaturukup\My Documents\Old HDD documents 14 March 2012\Desktop Documents\WHO LOGO NEW\WHO-AFRO-EN-C.jpg"/>
          <p:cNvPicPr/>
          <p:nvPr/>
        </p:nvPicPr>
        <p:blipFill>
          <a:blip r:embed="rId5"/>
          <a:stretch/>
        </p:blipFill>
        <p:spPr>
          <a:xfrm>
            <a:off x="2471760" y="5172120"/>
            <a:ext cx="228276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Papel do Grupo de Acção Nacional do Ébola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Aprovar as estratégias de controlo da epidemia recomendadas pela 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senvolver um plano de acção detalhado para a resposta à epide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finir as responsabilidades das diferentes equipas no terre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Organizar a mobilização de recursos em colaboração com os parcei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finir os canais de informação durante as operações de resposta à epide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Comunicar regularmente com a imprensa nacional e interna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A nível local, com a ajuda de parceiros internacionais, criar uma comissão técnica e científica internacional para coordenar as medidas de controlo da epidemia que será responsável pela organização das actividades diárias das equipas no terre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tle 1"/>
          <p:cNvSpPr/>
          <p:nvPr/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Papel do Grupo de Acção Nacional do Ébo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r reuniões de coordenação e monitorizar as oper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r a coordenação com os serviços responsáveis pela saúde animal na vida selv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arques na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erviços veterin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ssegurar uma rotação regular do pessoal n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F:\Ebola July 2014 documents_YZ\SLE EBOLA RESPONSE PHOTO LIBRARY\7   Sierra Leone Ebola_Photo credit_WHO Saffea Gborie.jpg"/>
          <p:cNvPicPr/>
          <p:nvPr/>
        </p:nvPicPr>
        <p:blipFill>
          <a:blip r:embed="rId1"/>
          <a:stretch/>
        </p:blipFill>
        <p:spPr>
          <a:xfrm>
            <a:off x="4444920" y="2073240"/>
            <a:ext cx="4407120" cy="2940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Papel do Grupo de Acção Nacional do Ébo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Evitar a aplicação de medidas restritivas, de acordo com o RSI (200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ar o fim do relatório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écnico, Administrativo, Financeiro e Log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o impacto económico e social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a gestão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Com base nas experiências adquiridas, fazer recomendações para a prevenção e gestão de futuras epidemi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Papel do Grupo de Acção Nacional do Ébo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640" y="-10044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issão de Coordenação Nacional (Grupo de Acção Nacional): Composi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liderança nacional é da máxima importância e a composição pode variar de país para país, mas é essencialme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scritório do Presidente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érios da Saúde, Finanças, Agricultura, Veterinário, Serviços Sociais, Educação e Defesa, etc.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arceiros internacionais e locais: por exemplo, OMS, MSF, CDC, UNICEF, USAID, FAO, IEO, Cruz Vermelha/Crescente Vermelho, IFRC, etc.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upos de interesses especiais: indústrias extractivas (mineira, petrolífera, madeira), turismo, companhias aéreas, etc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Content Placeholder 2"/>
          <p:cNvSpPr/>
          <p:nvPr/>
        </p:nvSpPr>
        <p:spPr>
          <a:xfrm>
            <a:off x="539640" y="1268280"/>
            <a:ext cx="83743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Definir o orçamento operacional para as actividades (comunicação, vigilância reforçada, investigação, etc.), para a detecção pré-epidémica e para a resposta preliminar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Identificar as fontes de financiamento, incluindo a alocação de recursos domésticos e criação e conhecimento de mecanismos para obter recursos adicionais sempre que necessário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Desenvolver modelos para a mobilização de recursos e para a notificação dos países e dos doadores, incluindo mecanismos para monitorizar e seguir a implementação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stabelecer fundos de contingência facilmente acessíveis para uma resposta imediata a um surto de EVD a nível nacional e noutros locais apropriados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Identificar o processo de transferência de dinheiro do nível central para uma utilização de emergência loca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bjectivos Intermédios: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User</cp:lastModifiedBy>
  <cp:lastPrinted>2013-10-01T07:19:12Z</cp:lastPrinted>
  <dcterms:modified xsi:type="dcterms:W3CDTF">2014-11-29T16:30:50Z</dcterms:modified>
  <cp:revision>198</cp:revision>
  <dc:subject/>
  <dc:title>DPC Training and Technical Update</dc:title>
</cp:coreProperties>
</file>